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03B7-2583-4D7A-9B38-57CE5F4534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Rahmen einer Diplomarbeit war der Student Mohammed Laaroussi, von Fachhochschule Darmstadt Fachbereich Elektrotechnik/Telekommunikation, mit dem Thema dieses Vortrags beschäftigt. Das Thema ist </a:t>
            </a:r>
            <a:r>
              <a:rPr b="0" lang="de-DE" sz="1200" spc="-1" strike="noStrike">
                <a:solidFill>
                  <a:srgbClr val="000000"/>
                </a:solidFill>
                <a:latin typeface="Arial"/>
                <a:ea typeface="Times New Roman"/>
              </a:rPr>
              <a:t>Ionenstrahlstrom-Diagnose basierend auf einer PXI-LabVIEW-Realtime Multi-Client-Server Applikation unter Einsatz von getriggerten und synchronisierten ADC-Karten und einer RIO-Karte (FPG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nötigte Software in dieser Applikation sind: LabVIEW 7.1.1- Professional Development System, LV-RT 7.1.1, LV-FPGA 1.1 und DAQmx 7.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n nächsten Folien werde ich auf folgende Punkte eingehen. 1. Die Architektur des Multi-Client-Servers. 2. Zustandsdiagramm der RT-Loop für die Datenerfassung. 3. Konfigurations-Sequenz bei der PXI-Karten. 4.  Die DAQ für die Analogsignale. 5. Die FPGA Module für die diskrete Werte und Rahmen pulse. 6. Die FPGA Hos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ie Architektur von dem Multi-Client-Server inklusiv die Programme für die Messdaten Erfassung jeweils PXI-ADC-Board für Analog Signale und FPGA Board für Digitale Signale und Diskrete We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ngen wir zuerst mit den Clients an. Hier sehen wir die Clients 1. bis n. Jeder Client wird mit zwei großen Prozessen bezeichnet. Konfiguration und Visualisierung Prozess. Nach der Anmeldung von dem Client, lauscht der TCP/IP seine Verbindung ID, registriert sie und leitet sie weiter zum Konfiguration Prozess im Server. Damit wird eine Kommunikationsverbindung zwischen dem Konfigurationsprozess vom Server und dem vom Client gebaut. Dadurch bekommt der Client erst mal die Serverkonfiguration oder besser gesagt die Auswahlliste. Der Client kann damit seine Auswahl treffen und zum Server versenden. Bei dem Server wird im Konfigurationsprozess die gesamte Auswahlliste von allen Clients bearbeitet. Dadurch entsteht eine neue Hardware-Konfiguration, die die zu lesende Messkanäle bestimmt. Um die neue Hardware Konfiguration einzustellen muss eine Hardware Steuerung durchgeführt werden. Das sehen wir im Zustanddiagramm auf der nächsten Folie. Nach der Datenerfassung von den entsprechenden Kanälen werden die Messdaten von Datenaquisitionsprozess zum Daten-Server durch Fifo übertragen. Der Daten-Server Prozess weiß durch die Kommunikation mit dem Konfigurationsprozess welche Messdaten zu welchem Client gehören. Und darauf basiert die Datenübertragung durch ein zweites Kanal zu dem entsprechendem Cl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wir die zustände bei der DAQ. Bei jedem Zustand wird als erstes Kontrolliert ob da ein Error von Fifo erzeugt ist. In dem fall wechselt das Programm zum "End" und stellt damit die ganze Aktivität im TCL bzw. im Server ein. Im Ruhezustand ist die TCL im Zustand Init und wartet auf ein Start Cmd vom Server. Dies führt zum Config zustand, wo die Hardware neu Konfiguriert wird. Wenn da kein Fifo-Error bzw. Config-Error erzeugt wird wechselt das Programm zum DAQ-Zustand, da wird die Datenerfassung so lange durchgeführt bis das Programm einen Stop Cmd vom Server bekommt. In dem fall wird zum Clear-Task-Zustand gewechselt und die erzeugte Task wieder gelöscht, danach landet das Programm in Zustand Init und wartet auf eine neue Hardwaresteuer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wir die Konfiguration von den ADC-Karten für die Analogsignale. Die Konfiguration von Karten wird sequenziell (For-Schleife) durchgeführt und basiert auf den beiden Informationen: 1. Slot Status Array: bestimmt die Karten, die in Betrieb genommen werden.  2. Physical-Channel-Array: bestimmt bei jeder Karte von welchen Kanälen gelesen wird. Als erstens wird die Channel-Parameters initialisiert als zweitens wird die Timing-Parameters gegeben und als drittens wird der Trigger neu Konfigurier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r Konfiguration von der Hardware, wechselt das Programm zum Zustand "D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Sequenz (das Bild) ist auf True und bedeutet damit, dass von der Karte Daten geles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Task (Rote Pfeile) wird im Config-Zustand erzeugt und definiert die Kanäle, die von dieser Karte gelesen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Starten die DAQ und warten bis der Trigger ausgelöst ist. Danach Starten wir die Datenerfassung und bekommen wir als Ausgang die Messdaten als Array von Waveform. Danach Stoppen wir die D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möchte ich mal zeigen das die DAQ synchron von allen Karten durchgeführt wird. Die Messdaten von den Karten werden zusammen in einem Array gebunden und durch Fifo zum Server weiter geleitet. Dieser Prozess, den wir hier sehen, wird so lange wiederholt bis ein Stop Cmd vom Server erhalten wi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PGA Programme sind von meinem Betreuer Dr. Holger Brand entwick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FPGA-Board sind immer drei wichtige Prozesse am laufen: Das Lesen vom Daten, das Schreiben im Fifo und das Lesen von Fifo im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as Lesen haben wir zwei Programme: Flanken erkennunug für Digitalsignale und MAPS-Protokoll für die diskrete W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geht es um die Erfassung von Digitalen Signalen. die Methode basiert auf die Flankenerkennung von jeden entsprechenden Pin. Bei jeder Änderung wird die gesamte Information von Pins mit dem Zeitpunkt gespeichert. Das ganze wird so lange geprüft, bis der cycle zum Ende kommt oder ein Stop befehl betätigt 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er Zweite Programm von dem Lesen von diskreten W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bekommen von jedem Trafo sein SRQ, wenn der SRQ auf True Ist, setzen wir seine Adresse in Adressbuss, Adresse Strobe auf true und warten wir bis Data Strob von dem Trafoelektronik auf true Gesetzt wird. danach lesen wir die Daten von Datenbus und Legen wir sie im Speicher. die Letzten beiden Programme , für das Lesen von Daten, werden Synchron gelesen. End of Cycle wird durch ein Pin von elektronik ermittelt und Löst damit einen Occurent, was wir nachher sehen werde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dem Programm werden Die im Speicher gelegten Messdaten nochmal gelesen und in fifo zum Host geliefert. der Occurent (Gelbe rechtecke) wird erst gelöst, wenn der Cycle am ende ist und die Daten schon In Speicher gelegt sind. im roten rechecke werden alle Daten von Speicher geholt und durch fifo zum Host weiter ermittel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nks oben wird der FPGA Programm gestartet Rotes Rechteck oben ist der Trigger Loop, der Occuret wird gesetzt wenn der Cycle am Ende ist und die Daten schon Im fifo geschoben sind. Unten werden sie nach dem Occurent  von Fifi Gelesen und in dem Entsprechenden variable im  host geschrieb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Vortrag werde ich auf folgende Punkte eingehen. -1. Die Beschleunigeranlage –ein Teil davon ist die Messstrecke. -2. Der Strahltrafo als Messinstrument. -3. Die Systemanforderungen für die neue Applikation. -4. Altes Maps-System.  -5. Architektur alt &amp; neue im Vergleich. -6. Hardware-Komponenten, die wir für die neue Applikation benötigt haben. -7. die Software mit Unterpunkten und als letzten punkt. -8. Fazit &amp; Ausb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ie gesamte Beschleuniger Anlage von GSI. In den Strahlquellen werden Ionen Teilchen erzeugt und entlang der gezeichneten  Bahn Transportiert und Beschleunigt. Damit der Strahl erfolgreich und optimal von der Quelle bis zum Ziel übertragen wird, wurden mehrere Strahldiagnosen-Applikationen entwickelt. Unter anderem ist das MAPS-Verfahren, mit dem man die Strahlströme entlang der UNILAC ( Lineare Beschleuniger ) messen kann. Dafür sind ca. 40 Srahltrafos in Mehreren stellen stationi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Bild zeigt uns einen auseinander gebauten Strahltrafo mit seinen Elektroniken. Der Strahl fließt durch diesen Ringkern (Links vom Bild) und erzeugt damit ein Magnetfeld. Der dadurch erzeugte Strom wird mit der Karte (in der Mitte vom Bild) verstärkt und weitergeleitet. Mit der Digitalkarte (Recht vom Bild) wird der Mittelwert des Stroms gerechnet und mit anderen Werten von der Pulszentrale durch MAPS-BUS weiter ermitt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ystem Anforderungen für den Realtime-Serv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rahlquelle liefert Strahlung mit max. 50 Hz. Damit haben wir Signale mit einer Periode von 20 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Die Betriebsbeschleuniger werden auch virtuelle Beschleuniger genannt. Von der Strahlquelle werden mehrere strahlungen mit unterschiedliche Frequenzen geliefert jeder Strahl hat  bestimmte Frequenz und wird zu bestimmten Ziel geliefert. Bei jedem Strahltrafo soll der virtuelle Beschleuniger, der im gang ist, identifiziert werden. Diese Information wird gleichzeitig mit den anderen diskreten Werte von der Pulszentrale bzw. von der Digital Karte geliefert und soll mit den analog Messdaten übertragen we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Zur Zeit wird die Messungen in ca.40 stellen durchgeführt. Mit der neuen Applikation wird das auf 64 erweitert. Das ganze System soll aber auf 128 erweiterbar se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Die Analogsignale werden mit 2 MHz Digitalisiert und haben eine Länge von 2µS bis 8mS. Der 2µS-Wert war der Grund für die 2 MHz-Digitalisieru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Bei jeden Messung bekommt der Strahltrafo den Digitalsignal von der Pulszentrale (das nennen wir Rahmenpuls). Dieser Puls bezeichnet das Zeitfenster für die Messaufnahmen in dem entsprechenden Messort. Und soll auch damit übertra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Die Datenerfassung wird Simultan und mit einem gemeinsamen externen Trigger gestart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 Um die seltenen Pulse nicht zu verpassen soll eine zeitkritische, Deterministische Datenerfassung realisiert werden. Damit hat die Publikation der Daten im Server niedrigere Priorität als die Datenerfassu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Für den Klient Programm sind zwei Modis erstellt Experten- und Operatingmodus. Der Experten Modus besitzt mehr rechte als der ande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Die Visualisierungsrate bei dem Klient soll auf 4 Hz gesetzt we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Die Messdaten von der letzten Stunde sollen immer verfügbar se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sehen wir den Bildschirm von dem alten MAPS-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daten werden von einem Dos PC mit einer Kabelverlängerung zum HKR über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ungen werden nur in 2 aus 40 Messorten durchgefüh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r Anzeige von Messdaten stehen nur 2 Kanäle zur Verfüg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daten sind nur zu visualisieren, man kann sie nicht speichern und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zu sind viele Ersatzteile nicht zu bekomm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n Vergleich sehen wir hier die Architektur von dem alten und dem neuen MAPS-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ngen wir zuerst mit dem alten an. Als Packet von den zu übertragenden Messdaten sehen wir in diesem Rechteck (Recht oben ) drei Arten von Messd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skrete Werte: die Pulslänge, Mittelwert des Stroms, PZID, sein Status und Messort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gitalsignal: der Rahmenpuls von der Pulszent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alogsignale von dem Strahltra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er Trafo Elektronik (Bild vom alten System Links unten) bezeichnet acht Strahltraf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ultiplexer (Bild von alten System recht unten) werden von HKR gesteuert und auf die gewünschte zwei Messorte eingestellt. Die Daten werden in dem Dos PC bearbeitet und durch ein Kabel in HKR visualisi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neuen Applikation sehen wir in der Mitte vom Bild ein PXI-Chassis mit 8 ADC und ein RIO I/O-Karte. Mit jedem ADC werden 8 Analoge Signale von 8 Strahltrafos erfasst. Die dazu gehörige Diskrete werte und Digitale Signale werden mit dem RIO-Karte mit dem FPGA Module erfasst. Die gesamten gewonnenen Messdaten werden in einem Multi-Client-Server bearbeitet und zu den entsprechenden Clients versendet. Die Datenübertragung zwischen Clients und Server ist via 100 MBit Ethernet mit TCP/IP Protokoll realisi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ind die Hardware-Komponenten, die für die Erneuerung des Systems benötigt s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PXI Chassis mit 18-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Embedded Controller: 2,5 GHz Pentium 4, 1 GByte Arbeitsspeicher und 100 MBit-Eth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t PXI-ADC mit Synchronisierter Datenerfassung und jeweils 8 differentielle Analoge Eingänge und ein Externer Trigger Anschl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PXI RIO I/O mit 160 digitale konfigurierbare Ein- u. Ausgänge, 40 MHz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Bild ist von dem Client-Gui. Vom erste Blick merkt man, dass da vier Messdaten-Packte gleichzeitig zu Visualisiern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Datenübertragung ist via Netzwerk realisiert. Die Datenspeicherung ist damit auch mög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ehreren Clients können unterschiedliche Messdaten gleichzeitig anfordern und bei sich visuali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PXI-Karten für die Erfassung von analog Signalen sind  nur im Betrieb, wenn von ihnen Signalen angefordert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62E88-4C59-4A63-A028-49D810D6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1660680" y="248724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66E48-C682-4F0C-8754-007DC58D0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80F03-8309-4A08-B920-7DA147B42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166068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5377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54151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166068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5377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54151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9624-9C2C-4714-91D7-530E98C49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4C88B-395C-4059-B28E-A2493C2CD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type="subTitle"/>
          </p:nvPr>
        </p:nvSpPr>
        <p:spPr>
          <a:xfrm>
            <a:off x="1660680" y="2487240"/>
            <a:ext cx="5551200" cy="259236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FDB01-118C-40A6-8F70-B649CD1C3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660680" y="2487240"/>
            <a:ext cx="555120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96A5C-60C3-499E-A14D-D28493C74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E9587-58F7-4F2F-A0CB-7BB24B73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698E4-96F6-4B71-B426-6D30311A3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520" y="75960"/>
            <a:ext cx="8396280" cy="494568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C6164-FD14-48A1-9D2A-BBB5281E5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80B93-C0D1-43CB-90E7-632960EA9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type="subTitle"/>
          </p:nvPr>
        </p:nvSpPr>
        <p:spPr>
          <a:xfrm>
            <a:off x="1660680" y="2487240"/>
            <a:ext cx="5551200" cy="259236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9E39A-2EF0-4F14-9EE5-73A6B1AFB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0EAC6-7176-4A5C-96E6-FDDD9C828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B821-E9E6-4B8D-A730-96D74208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1660680" y="248724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CA040-7653-40A1-A444-B529B8D75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5"/>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45A50-8A10-4DED-B52E-1C3D8C1A3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2"/>
          <p:cNvSpPr>
            <a:spLocks noGrp="1"/>
          </p:cNvSpPr>
          <p:nvPr>
            <p:ph/>
          </p:nvPr>
        </p:nvSpPr>
        <p:spPr>
          <a:xfrm>
            <a:off x="166068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3"/>
          <p:cNvSpPr>
            <a:spLocks noGrp="1"/>
          </p:cNvSpPr>
          <p:nvPr>
            <p:ph/>
          </p:nvPr>
        </p:nvSpPr>
        <p:spPr>
          <a:xfrm>
            <a:off x="35377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4"/>
          <p:cNvSpPr>
            <a:spLocks noGrp="1"/>
          </p:cNvSpPr>
          <p:nvPr>
            <p:ph/>
          </p:nvPr>
        </p:nvSpPr>
        <p:spPr>
          <a:xfrm>
            <a:off x="54151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5"/>
          <p:cNvSpPr>
            <a:spLocks noGrp="1"/>
          </p:cNvSpPr>
          <p:nvPr>
            <p:ph/>
          </p:nvPr>
        </p:nvSpPr>
        <p:spPr>
          <a:xfrm>
            <a:off x="166068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6"/>
          <p:cNvSpPr>
            <a:spLocks noGrp="1"/>
          </p:cNvSpPr>
          <p:nvPr>
            <p:ph/>
          </p:nvPr>
        </p:nvSpPr>
        <p:spPr>
          <a:xfrm>
            <a:off x="35377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7"/>
          <p:cNvSpPr>
            <a:spLocks noGrp="1"/>
          </p:cNvSpPr>
          <p:nvPr>
            <p:ph/>
          </p:nvPr>
        </p:nvSpPr>
        <p:spPr>
          <a:xfrm>
            <a:off x="54151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8CEB4-F154-44B3-AF15-0190857AB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1660680" y="2487240"/>
            <a:ext cx="555120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8D69-00B6-4DD5-84FA-F0B6BD79B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28F9-C605-4938-AA82-4EF40D3A4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A3543-8F71-4DEF-8C45-DA1387ED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520" y="75960"/>
            <a:ext cx="8396280" cy="494568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3CB9-20CC-445B-9CDB-2AD53D4C5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E098F-8B3F-458F-AC0E-EC2F3CC0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6201-4B96-47FF-861F-692FB640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2410-60C4-4846-AA31-3227EB3C5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 name=""/>
          <p:cNvGrpSpPr/>
          <p:nvPr/>
        </p:nvGrpSpPr>
        <p:grpSpPr>
          <a:xfrm>
            <a:off x="-360" y="0"/>
            <a:ext cx="9144360" cy="6615000"/>
            <a:chOff x="-360" y="0"/>
            <a:chExt cx="9144360" cy="6615000"/>
          </a:xfrm>
        </p:grpSpPr>
        <p:pic>
          <p:nvPicPr>
            <p:cNvPr id="2" name="" descr=""/>
            <p:cNvPicPr/>
            <p:nvPr/>
          </p:nvPicPr>
          <p:blipFill>
            <a:blip r:embed="rId2"/>
            <a:stretch/>
          </p:blipFill>
          <p:spPr>
            <a:xfrm>
              <a:off x="7658280" y="6324480"/>
              <a:ext cx="914400" cy="290520"/>
            </a:xfrm>
            <a:prstGeom prst="rect">
              <a:avLst/>
            </a:prstGeom>
            <a:ln w="0">
              <a:noFill/>
            </a:ln>
          </p:spPr>
        </p:pic>
        <p:sp>
          <p:nvSpPr>
            <p:cNvPr id="3" name=""/>
            <p:cNvSpPr/>
            <p:nvPr/>
          </p:nvSpPr>
          <p:spPr>
            <a:xfrm flipH="1">
              <a:off x="-360" y="65530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0"/>
              <a:ext cx="9144000" cy="1184400"/>
            </a:xfrm>
            <a:prstGeom prst="rect">
              <a:avLst/>
            </a:prstGeom>
            <a:ln w="0">
              <a:noFill/>
            </a:ln>
          </p:spPr>
        </p:pic>
      </p:grpSp>
      <p:sp>
        <p:nvSpPr>
          <p:cNvPr id="6" name="PlaceHolder 2"/>
          <p:cNvSpPr>
            <a:spLocks noGrp="1"/>
          </p:cNvSpPr>
          <p:nvPr>
            <p:ph type="dt" idx="1"/>
          </p:nvPr>
        </p:nvSpPr>
        <p:spPr>
          <a:xfrm>
            <a:off x="215640" y="6582960"/>
            <a:ext cx="190476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2176200" y="6582960"/>
            <a:ext cx="530532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218080" y="6581520"/>
            <a:ext cx="925560" cy="276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3908-E2BD-4D55-A1BA-627D86DEC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lum bright="6000"/>
          </a:blip>
          <a:srcRect l="0" t="2447" r="0" b="1224"/>
          <a:stretch/>
        </p:blipFill>
        <p:spPr>
          <a:xfrm>
            <a:off x="684360" y="1239840"/>
            <a:ext cx="7853040" cy="4995720"/>
          </a:xfrm>
          <a:prstGeom prst="rect">
            <a:avLst/>
          </a:prstGeom>
          <a:ln w="0">
            <a:noFill/>
          </a:ln>
        </p:spPr>
      </p:pic>
      <p:sp>
        <p:nvSpPr>
          <p:cNvPr id="47" name="PlaceHolder 1"/>
          <p:cNvSpPr>
            <a:spLocks noGrp="1"/>
          </p:cNvSpPr>
          <p:nvPr>
            <p:ph type="dt" idx="4"/>
          </p:nvPr>
        </p:nvSpPr>
        <p:spPr>
          <a:xfrm>
            <a:off x="215640" y="6582960"/>
            <a:ext cx="190476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76200" y="6582960"/>
            <a:ext cx="530532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8218080" y="6581520"/>
            <a:ext cx="925560" cy="276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39EA-5CE0-4DFB-92A4-F3131EE66A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360" y="0"/>
            <a:ext cx="9144360" cy="6615000"/>
            <a:chOff x="-360" y="0"/>
            <a:chExt cx="9144360" cy="6615000"/>
          </a:xfrm>
        </p:grpSpPr>
        <p:pic>
          <p:nvPicPr>
            <p:cNvPr id="51" name="" descr=""/>
            <p:cNvPicPr/>
            <p:nvPr/>
          </p:nvPicPr>
          <p:blipFill>
            <a:blip r:embed="rId3"/>
            <a:stretch/>
          </p:blipFill>
          <p:spPr>
            <a:xfrm>
              <a:off x="7658280" y="6324480"/>
              <a:ext cx="914400" cy="290520"/>
            </a:xfrm>
            <a:prstGeom prst="rect">
              <a:avLst/>
            </a:prstGeom>
            <a:ln w="0">
              <a:noFill/>
            </a:ln>
          </p:spPr>
        </p:pic>
        <p:sp>
          <p:nvSpPr>
            <p:cNvPr id="52" name=""/>
            <p:cNvSpPr/>
            <p:nvPr/>
          </p:nvSpPr>
          <p:spPr>
            <a:xfrm flipH="1">
              <a:off x="-360" y="65530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610480" y="6553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4"/>
            <a:stretch/>
          </p:blipFill>
          <p:spPr>
            <a:xfrm>
              <a:off x="0" y="0"/>
              <a:ext cx="9144000" cy="1184400"/>
            </a:xfrm>
            <a:prstGeom prst="rect">
              <a:avLst/>
            </a:prstGeom>
            <a:ln w="0">
              <a:noFill/>
            </a:ln>
          </p:spPr>
        </p:pic>
      </p:grpSp>
      <p:sp>
        <p:nvSpPr>
          <p:cNvPr id="55" name="PlaceHolder 4"/>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9.png"/><Relationship Id="rId8" Type="http://schemas.openxmlformats.org/officeDocument/2006/relationships/slideLayout" Target="../slideLayouts/slideLayout1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onenstrahlstrom-Diagnose basierend auf  PXI-LabVIEW-Realtime</a:t>
            </a:r>
            <a:endParaRPr b="1" lang="en-US" sz="3200" spc="-1" strike="noStrike">
              <a:solidFill>
                <a:srgbClr val="000000"/>
              </a:solidFill>
              <a:latin typeface="Arial"/>
            </a:endParaRPr>
          </a:p>
        </p:txBody>
      </p:sp>
      <p:sp>
        <p:nvSpPr>
          <p:cNvPr id="101" name="PlaceHolder 2"/>
          <p:cNvSpPr>
            <a:spLocks noGrp="1"/>
          </p:cNvSpPr>
          <p:nvPr>
            <p:ph type="subTitle"/>
          </p:nvPr>
        </p:nvSpPr>
        <p:spPr>
          <a:xfrm>
            <a:off x="1660680" y="2487600"/>
            <a:ext cx="5719680" cy="346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onenstrahlstrom-Diagnose basierend auf einer PXI-LabVIEW-Realtime Client-Server Applikation unter Einsatz von getriggerten und synchronisierten NI-ADC-Karten und einer NI-RIO-Karte (FPGA)</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I-Frühjahrstagung 2005</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hammed Laaroussi, GSI</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4.4.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a:t>
            </a:r>
            <a:endParaRPr b="1"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hitektur</a:t>
            </a:r>
            <a:endParaRPr b="0" lang="en-US" sz="24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abVIEW 7.1.1</a:t>
            </a:r>
            <a:endParaRPr b="0" lang="en-US" sz="22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fessional Development System</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Realtime 7.1.1</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 State Diagram Editior</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FPGA 1.1</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Qmx 7.3.0</a:t>
            </a:r>
            <a:endParaRPr b="0" lang="en-US" sz="18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standsdiagramm der RT-Loop</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figurations-Sequenz</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Q</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PG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PGA Host Inte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rchitektur</a:t>
            </a:r>
            <a:endParaRPr b="1" lang="en-US" sz="3600" spc="-1" strike="noStrike">
              <a:solidFill>
                <a:srgbClr val="000000"/>
              </a:solidFill>
              <a:latin typeface="Arial"/>
            </a:endParaRPr>
          </a:p>
        </p:txBody>
      </p:sp>
      <p:graphicFrame>
        <p:nvGraphicFramePr>
          <p:cNvPr id="132" name=""/>
          <p:cNvGraphicFramePr/>
          <p:nvPr/>
        </p:nvGraphicFramePr>
        <p:xfrm>
          <a:off x="865080" y="1413000"/>
          <a:ext cx="7340760" cy="4895640"/>
        </p:xfrm>
        <a:graphic>
          <a:graphicData uri="http://schemas.openxmlformats.org/presentationml/2006/ole">
            <p:oleObj r:id="rId1" spid="">
              <p:embed/>
              <p:pic>
                <p:nvPicPr>
                  <p:cNvPr id="133" name="" descr=""/>
                  <p:cNvPicPr/>
                  <p:nvPr/>
                </p:nvPicPr>
                <p:blipFill>
                  <a:blip r:embed="rId2"/>
                  <a:stretch/>
                </p:blipFill>
                <p:spPr>
                  <a:xfrm>
                    <a:off x="865080" y="1413000"/>
                    <a:ext cx="7340760" cy="4895640"/>
                  </a:xfrm>
                  <a:prstGeom prst="rect">
                    <a:avLst/>
                  </a:prstGeom>
                  <a:ln w="76320">
                    <a:solidFill>
                      <a:srgbClr val="000000"/>
                    </a:solidFill>
                    <a:miter/>
                  </a:ln>
                </p:spPr>
              </p:pic>
            </p:oleObj>
          </a:graphicData>
        </a:graphic>
      </p:graphicFrame>
      <p:sp>
        <p:nvSpPr>
          <p:cNvPr id="134" name=""/>
          <p:cNvSpPr/>
          <p:nvPr/>
        </p:nvSpPr>
        <p:spPr>
          <a:xfrm flipV="1">
            <a:off x="5148360" y="2492280"/>
            <a:ext cx="1224000" cy="4320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508720" y="3141720"/>
            <a:ext cx="863640" cy="574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Q - Zustandsdiagramm</a:t>
            </a:r>
            <a:endParaRPr b="1" lang="en-US" sz="3600" spc="-1" strike="noStrike">
              <a:solidFill>
                <a:srgbClr val="000000"/>
              </a:solidFill>
              <a:latin typeface="Arial"/>
            </a:endParaRPr>
          </a:p>
        </p:txBody>
      </p:sp>
      <p:graphicFrame>
        <p:nvGraphicFramePr>
          <p:cNvPr id="137" name=""/>
          <p:cNvGraphicFramePr/>
          <p:nvPr/>
        </p:nvGraphicFramePr>
        <p:xfrm>
          <a:off x="1116000" y="1268280"/>
          <a:ext cx="6985080" cy="5040360"/>
        </p:xfrm>
        <a:graphic>
          <a:graphicData uri="http://schemas.openxmlformats.org/presentationml/2006/ole">
            <p:oleObj r:id="rId1" spid="">
              <p:embed/>
              <p:pic>
                <p:nvPicPr>
                  <p:cNvPr id="138" name="" descr=""/>
                  <p:cNvPicPr/>
                  <p:nvPr/>
                </p:nvPicPr>
                <p:blipFill>
                  <a:blip r:embed="rId2"/>
                  <a:stretch/>
                </p:blipFill>
                <p:spPr>
                  <a:xfrm>
                    <a:off x="1116000" y="1268280"/>
                    <a:ext cx="6985080" cy="5040360"/>
                  </a:xfrm>
                  <a:prstGeom prst="rect">
                    <a:avLst/>
                  </a:prstGeom>
                  <a:ln w="324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971640" y="1557360"/>
            <a:ext cx="7165800" cy="4525920"/>
          </a:xfrm>
          <a:prstGeom prst="rect">
            <a:avLst/>
          </a:prstGeom>
          <a:ln w="3240">
            <a:solidFill>
              <a:srgbClr val="ffffff"/>
            </a:solidFill>
            <a:miter/>
          </a:ln>
        </p:spPr>
      </p:pic>
      <p:sp>
        <p:nvSpPr>
          <p:cNvPr id="14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Q Konfiguration</a:t>
            </a:r>
            <a:endParaRPr b="1" lang="en-US" sz="3600" spc="-1" strike="noStrike">
              <a:solidFill>
                <a:srgbClr val="000000"/>
              </a:solidFill>
              <a:latin typeface="Arial"/>
            </a:endParaRPr>
          </a:p>
        </p:txBody>
      </p:sp>
      <p:sp>
        <p:nvSpPr>
          <p:cNvPr id="141" name=""/>
          <p:cNvSpPr/>
          <p:nvPr/>
        </p:nvSpPr>
        <p:spPr>
          <a:xfrm>
            <a:off x="3780000" y="3573360"/>
            <a:ext cx="208728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08360" y="3573360"/>
            <a:ext cx="2087640" cy="1008000"/>
          </a:xfrm>
          <a:prstGeom prst="roundRect">
            <a:avLst>
              <a:gd name="adj" fmla="val 16667"/>
            </a:avLst>
          </a:prstGeom>
          <a:noFill/>
          <a:ln w="889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692360" y="2133720"/>
            <a:ext cx="649080" cy="43020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539640" y="4723920"/>
            <a:ext cx="50328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611280" y="4220640"/>
            <a:ext cx="50328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DAQ Read</a:t>
            </a:r>
            <a:endParaRPr b="1" lang="en-US" sz="3600" spc="-1" strike="noStrike">
              <a:solidFill>
                <a:srgbClr val="000000"/>
              </a:solidFill>
              <a:latin typeface="Arial"/>
            </a:endParaRPr>
          </a:p>
        </p:txBody>
      </p:sp>
      <p:graphicFrame>
        <p:nvGraphicFramePr>
          <p:cNvPr id="147" name=""/>
          <p:cNvGraphicFramePr/>
          <p:nvPr/>
        </p:nvGraphicFramePr>
        <p:xfrm>
          <a:off x="684360" y="1989000"/>
          <a:ext cx="7559640" cy="3656160"/>
        </p:xfrm>
        <a:graphic>
          <a:graphicData uri="http://schemas.openxmlformats.org/presentationml/2006/ole">
            <p:oleObj r:id="rId1" spid="">
              <p:embed/>
              <p:pic>
                <p:nvPicPr>
                  <p:cNvPr id="148" name="" descr=""/>
                  <p:cNvPicPr/>
                  <p:nvPr/>
                </p:nvPicPr>
                <p:blipFill>
                  <a:blip r:embed="rId2"/>
                  <a:stretch/>
                </p:blipFill>
                <p:spPr>
                  <a:xfrm>
                    <a:off x="684360" y="1989000"/>
                    <a:ext cx="7559640" cy="3656160"/>
                  </a:xfrm>
                  <a:prstGeom prst="rect">
                    <a:avLst/>
                  </a:prstGeom>
                  <a:ln w="3240">
                    <a:solidFill>
                      <a:srgbClr val="000000"/>
                    </a:solidFill>
                    <a:miter/>
                  </a:ln>
                </p:spPr>
              </p:pic>
            </p:oleObj>
          </a:graphicData>
        </a:graphic>
      </p:graphicFrame>
      <p:sp>
        <p:nvSpPr>
          <p:cNvPr id="149" name=""/>
          <p:cNvSpPr/>
          <p:nvPr/>
        </p:nvSpPr>
        <p:spPr>
          <a:xfrm flipV="1">
            <a:off x="324000" y="3644640"/>
            <a:ext cx="431640" cy="36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187280" y="1268280"/>
          <a:ext cx="6913800" cy="5040360"/>
        </p:xfrm>
        <a:graphic>
          <a:graphicData uri="http://schemas.openxmlformats.org/presentationml/2006/ole">
            <p:oleObj r:id="rId1" spid="">
              <p:embed/>
              <p:pic>
                <p:nvPicPr>
                  <p:cNvPr id="151" name="" descr=""/>
                  <p:cNvPicPr/>
                  <p:nvPr/>
                </p:nvPicPr>
                <p:blipFill>
                  <a:blip r:embed="rId2"/>
                  <a:stretch/>
                </p:blipFill>
                <p:spPr>
                  <a:xfrm>
                    <a:off x="1187280" y="1268280"/>
                    <a:ext cx="6913800" cy="5040360"/>
                  </a:xfrm>
                  <a:prstGeom prst="rect">
                    <a:avLst/>
                  </a:prstGeom>
                  <a:ln w="3240">
                    <a:solidFill>
                      <a:srgbClr val="000000"/>
                    </a:solidFill>
                    <a:miter/>
                  </a:ln>
                </p:spPr>
              </p:pic>
            </p:oleObj>
          </a:graphicData>
        </a:graphic>
      </p:graphicFrame>
      <p:sp>
        <p:nvSpPr>
          <p:cNvPr id="152" name=""/>
          <p:cNvSpPr/>
          <p:nvPr/>
        </p:nvSpPr>
        <p:spPr>
          <a:xfrm>
            <a:off x="533520" y="152280"/>
            <a:ext cx="7772400" cy="9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DAQ Read 2</a:t>
            </a:r>
            <a:endParaRPr b="0" lang="en-US" sz="3600" spc="-1" strike="noStrike">
              <a:solidFill>
                <a:srgbClr val="000000"/>
              </a:solidFill>
              <a:latin typeface="Arial"/>
            </a:endParaRPr>
          </a:p>
        </p:txBody>
      </p:sp>
      <p:sp>
        <p:nvSpPr>
          <p:cNvPr id="153" name=""/>
          <p:cNvSpPr/>
          <p:nvPr/>
        </p:nvSpPr>
        <p:spPr>
          <a:xfrm>
            <a:off x="3995640" y="2205000"/>
            <a:ext cx="1584360" cy="4103640"/>
          </a:xfrm>
          <a:custGeom>
            <a:avLst/>
            <a:gdLst>
              <a:gd name="textAreaLeft" fmla="*/ 77040 w 1584360"/>
              <a:gd name="textAreaRight" fmla="*/ 1507320 w 1584360"/>
              <a:gd name="textAreaTop" fmla="*/ 77040 h 4103640"/>
              <a:gd name="textAreaBottom" fmla="*/ 4026600 h 4103640"/>
            </a:gdLst>
            <a:ahLst/>
            <a:rect l="textAreaLeft" t="textAreaTop" r="textAreaRight" b="textAreaBottom"/>
            <a:pathLst>
              <a:path w="21600" h="55938">
                <a:moveTo>
                  <a:pt x="3600" y="0"/>
                </a:moveTo>
                <a:arcTo wR="3600" hR="3600" stAng="16200000" swAng="-5400000"/>
                <a:lnTo>
                  <a:pt x="0" y="52338"/>
                </a:lnTo>
                <a:arcTo wR="3600" hR="3600" stAng="10800000" swAng="-5400000"/>
                <a:lnTo>
                  <a:pt x="18000" y="55938"/>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308720" y="1773360"/>
            <a:ext cx="358920" cy="1511280"/>
          </a:xfrm>
          <a:custGeom>
            <a:avLst/>
            <a:gdLst>
              <a:gd name="textAreaLeft" fmla="*/ 17280 w 358920"/>
              <a:gd name="textAreaRight" fmla="*/ 341640 w 358920"/>
              <a:gd name="textAreaTop" fmla="*/ 17280 h 1511280"/>
              <a:gd name="textAreaBottom" fmla="*/ 1494000 h 1511280"/>
            </a:gdLst>
            <a:ahLst/>
            <a:rect l="textAreaLeft" t="textAreaTop" r="textAreaRight" b="textAreaBottom"/>
            <a:pathLst>
              <a:path w="21600" h="90880">
                <a:moveTo>
                  <a:pt x="3600" y="0"/>
                </a:moveTo>
                <a:arcTo wR="3600" hR="3600" stAng="16200000" swAng="-5400000"/>
                <a:lnTo>
                  <a:pt x="0" y="87280"/>
                </a:lnTo>
                <a:arcTo wR="3600" hR="3600" stAng="10800000" swAng="-5400000"/>
                <a:lnTo>
                  <a:pt x="18000" y="90880"/>
                </a:lnTo>
                <a:arcTo wR="3600" hR="3600" stAng="5400000" swAng="-5400000"/>
                <a:lnTo>
                  <a:pt x="21600" y="3600"/>
                </a:lnTo>
                <a:arcTo wR="3600" hR="3600" stAng="0" swAng="-5400000"/>
                <a:close/>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95640" y="1844640"/>
            <a:ext cx="358560" cy="1511280"/>
          </a:xfrm>
          <a:custGeom>
            <a:avLst/>
            <a:gdLst>
              <a:gd name="textAreaLeft" fmla="*/ 17280 w 358560"/>
              <a:gd name="textAreaRight" fmla="*/ 341280 w 358560"/>
              <a:gd name="textAreaTop" fmla="*/ 17280 h 1511280"/>
              <a:gd name="textAreaBottom" fmla="*/ 1494000 h 1511280"/>
            </a:gdLst>
            <a:ahLst/>
            <a:rect l="textAreaLeft" t="textAreaTop" r="textAreaRight" b="textAreaBottom"/>
            <a:pathLst>
              <a:path w="21600" h="90971">
                <a:moveTo>
                  <a:pt x="3600" y="0"/>
                </a:moveTo>
                <a:arcTo wR="3600" hR="3600" stAng="16200000" swAng="-5400000"/>
                <a:lnTo>
                  <a:pt x="0" y="87371"/>
                </a:lnTo>
                <a:arcTo wR="3600" hR="3600" stAng="10800000" swAng="-5400000"/>
                <a:lnTo>
                  <a:pt x="18000" y="90971"/>
                </a:lnTo>
                <a:arcTo wR="3600" hR="3600" stAng="5400000" swAng="-5400000"/>
                <a:lnTo>
                  <a:pt x="21600" y="3600"/>
                </a:lnTo>
                <a:arcTo wR="3600" hR="3600" stAng="0" swAng="-5400000"/>
                <a:close/>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PGA Flankenerkennung</a:t>
            </a:r>
            <a:endParaRPr b="1" lang="en-US" sz="3600" spc="-1" strike="noStrike">
              <a:solidFill>
                <a:srgbClr val="000000"/>
              </a:solidFill>
              <a:latin typeface="Arial"/>
            </a:endParaRPr>
          </a:p>
        </p:txBody>
      </p:sp>
      <p:pic>
        <p:nvPicPr>
          <p:cNvPr id="157" name="" descr=""/>
          <p:cNvPicPr/>
          <p:nvPr/>
        </p:nvPicPr>
        <p:blipFill>
          <a:blip r:embed="rId1"/>
          <a:stretch/>
        </p:blipFill>
        <p:spPr>
          <a:xfrm>
            <a:off x="755640" y="1557360"/>
            <a:ext cx="7237440" cy="4525920"/>
          </a:xfrm>
          <a:prstGeom prst="rect">
            <a:avLst/>
          </a:prstGeom>
          <a:ln w="3240">
            <a:solidFill>
              <a:srgbClr val="000000"/>
            </a:solidFill>
            <a:miter/>
          </a:ln>
        </p:spPr>
      </p:pic>
      <p:sp>
        <p:nvSpPr>
          <p:cNvPr id="158" name=""/>
          <p:cNvSpPr/>
          <p:nvPr/>
        </p:nvSpPr>
        <p:spPr>
          <a:xfrm>
            <a:off x="539640" y="1916280"/>
            <a:ext cx="1728720" cy="122544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508720" y="2205000"/>
            <a:ext cx="1584360" cy="3384720"/>
          </a:xfrm>
          <a:custGeom>
            <a:avLst/>
            <a:gdLst>
              <a:gd name="textAreaLeft" fmla="*/ 77040 w 1584360"/>
              <a:gd name="textAreaRight" fmla="*/ 1507320 w 1584360"/>
              <a:gd name="textAreaTop" fmla="*/ 77040 h 3384720"/>
              <a:gd name="textAreaBottom" fmla="*/ 3307680 h 3384720"/>
            </a:gdLst>
            <a:ahLst/>
            <a:rect l="textAreaLeft" t="textAreaTop" r="textAreaRight" b="textAreaBottom"/>
            <a:pathLst>
              <a:path w="21600" h="46139">
                <a:moveTo>
                  <a:pt x="3600" y="0"/>
                </a:moveTo>
                <a:arcTo wR="3600" hR="3600" stAng="16200000" swAng="-5400000"/>
                <a:lnTo>
                  <a:pt x="0" y="42539"/>
                </a:lnTo>
                <a:arcTo wR="3600" hR="3600" stAng="10800000" swAng="-5400000"/>
                <a:lnTo>
                  <a:pt x="18000" y="46139"/>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PGA MAPS Bus Protokoll</a:t>
            </a:r>
            <a:endParaRPr b="1" lang="en-US" sz="3600" spc="-1" strike="noStrike">
              <a:solidFill>
                <a:srgbClr val="000000"/>
              </a:solidFill>
              <a:latin typeface="Arial"/>
            </a:endParaRPr>
          </a:p>
        </p:txBody>
      </p:sp>
      <p:pic>
        <p:nvPicPr>
          <p:cNvPr id="161" name="" descr=""/>
          <p:cNvPicPr/>
          <p:nvPr/>
        </p:nvPicPr>
        <p:blipFill>
          <a:blip r:embed="rId1"/>
          <a:stretch/>
        </p:blipFill>
        <p:spPr>
          <a:xfrm>
            <a:off x="858960" y="1600200"/>
            <a:ext cx="7426080" cy="4525920"/>
          </a:xfrm>
          <a:prstGeom prst="rect">
            <a:avLst/>
          </a:prstGeom>
          <a:ln w="3240">
            <a:solidFill>
              <a:srgbClr val="000000"/>
            </a:solidFill>
            <a:miter/>
          </a:ln>
        </p:spPr>
      </p:pic>
      <p:sp>
        <p:nvSpPr>
          <p:cNvPr id="162" name=""/>
          <p:cNvSpPr/>
          <p:nvPr/>
        </p:nvSpPr>
        <p:spPr>
          <a:xfrm>
            <a:off x="684360" y="2205000"/>
            <a:ext cx="1728720" cy="71928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03640" y="3789360"/>
            <a:ext cx="1440000" cy="71928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PGA-Fifo</a:t>
            </a:r>
            <a:endParaRPr b="1" lang="en-US" sz="3600" spc="-1" strike="noStrike">
              <a:solidFill>
                <a:srgbClr val="000000"/>
              </a:solidFill>
              <a:latin typeface="Arial"/>
            </a:endParaRPr>
          </a:p>
        </p:txBody>
      </p:sp>
      <p:pic>
        <p:nvPicPr>
          <p:cNvPr id="165" name="" descr=""/>
          <p:cNvPicPr/>
          <p:nvPr/>
        </p:nvPicPr>
        <p:blipFill>
          <a:blip r:embed="rId1"/>
          <a:stretch/>
        </p:blipFill>
        <p:spPr>
          <a:xfrm>
            <a:off x="457200" y="1919160"/>
            <a:ext cx="8229600" cy="3886200"/>
          </a:xfrm>
          <a:prstGeom prst="rect">
            <a:avLst/>
          </a:prstGeom>
          <a:ln w="3240">
            <a:solidFill>
              <a:srgbClr val="000000"/>
            </a:solidFill>
            <a:miter/>
          </a:ln>
        </p:spPr>
      </p:pic>
      <p:sp>
        <p:nvSpPr>
          <p:cNvPr id="166" name=""/>
          <p:cNvSpPr/>
          <p:nvPr/>
        </p:nvSpPr>
        <p:spPr>
          <a:xfrm>
            <a:off x="2411280" y="3573360"/>
            <a:ext cx="2665440" cy="136836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11280" y="2781360"/>
            <a:ext cx="649080" cy="64764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PGA-Host Interface</a:t>
            </a:r>
            <a:endParaRPr b="1" lang="en-US" sz="3600" spc="-1" strike="noStrike">
              <a:solidFill>
                <a:srgbClr val="000000"/>
              </a:solidFill>
              <a:latin typeface="Arial"/>
            </a:endParaRPr>
          </a:p>
        </p:txBody>
      </p:sp>
      <p:pic>
        <p:nvPicPr>
          <p:cNvPr id="169" name="" descr=""/>
          <p:cNvPicPr/>
          <p:nvPr/>
        </p:nvPicPr>
        <p:blipFill>
          <a:blip r:embed="rId1"/>
          <a:stretch/>
        </p:blipFill>
        <p:spPr>
          <a:xfrm>
            <a:off x="0" y="1413000"/>
            <a:ext cx="8640720" cy="4824360"/>
          </a:xfrm>
          <a:prstGeom prst="rect">
            <a:avLst/>
          </a:prstGeom>
          <a:ln w="3240">
            <a:solidFill>
              <a:srgbClr val="000000"/>
            </a:solidFill>
            <a:miter/>
          </a:ln>
        </p:spPr>
      </p:pic>
      <p:sp>
        <p:nvSpPr>
          <p:cNvPr id="170" name=""/>
          <p:cNvSpPr/>
          <p:nvPr/>
        </p:nvSpPr>
        <p:spPr>
          <a:xfrm>
            <a:off x="2050920" y="1341360"/>
            <a:ext cx="2376720" cy="158292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771640" y="2060640"/>
            <a:ext cx="649440" cy="43164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908000" y="3573360"/>
            <a:ext cx="649440" cy="43200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771640" y="3141720"/>
            <a:ext cx="2592360" cy="2808360"/>
          </a:xfrm>
          <a:custGeom>
            <a:avLst/>
            <a:gdLst>
              <a:gd name="textAreaLeft" fmla="*/ 126360 w 2592360"/>
              <a:gd name="textAreaRight" fmla="*/ 2466000 w 2592360"/>
              <a:gd name="textAreaTop" fmla="*/ 126360 h 2808360"/>
              <a:gd name="textAreaBottom" fmla="*/ 2682000 h 2808360"/>
            </a:gdLst>
            <a:ahLst/>
            <a:rect l="textAreaLeft" t="textAreaTop" r="textAreaRight" b="textAreaBottom"/>
            <a:pathLst>
              <a:path w="21600" h="23400">
                <a:moveTo>
                  <a:pt x="3600" y="0"/>
                </a:moveTo>
                <a:arcTo wR="3600" hR="3600" stAng="16200000" swAng="-5400000"/>
                <a:lnTo>
                  <a:pt x="0" y="19800"/>
                </a:lnTo>
                <a:arcTo wR="3600" hR="3600" stAng="10800000" swAng="-5400000"/>
                <a:lnTo>
                  <a:pt x="18000" y="23400"/>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halt</a:t>
            </a:r>
            <a:endParaRPr b="1" lang="en-US" sz="3600" spc="-1" strike="noStrike">
              <a:solidFill>
                <a:srgbClr val="000000"/>
              </a:solidFill>
              <a:latin typeface="Arial"/>
            </a:endParaRPr>
          </a:p>
        </p:txBody>
      </p:sp>
      <p:sp>
        <p:nvSpPr>
          <p:cNvPr id="103" name="PlaceHolder 2"/>
          <p:cNvSpPr>
            <a:spLocks noGrp="1"/>
          </p:cNvSpPr>
          <p:nvPr>
            <p:ph/>
          </p:nvPr>
        </p:nvSpPr>
        <p:spPr>
          <a:xfrm>
            <a:off x="468360" y="1413000"/>
            <a:ext cx="8229600" cy="3916080"/>
          </a:xfrm>
          <a:prstGeom prst="rect">
            <a:avLst/>
          </a:prstGeom>
          <a:noFill/>
          <a:ln w="0">
            <a:noFill/>
          </a:ln>
        </p:spPr>
        <p:txBody>
          <a:bodyPr lIns="90000" rIns="90000" tIns="46800" bIns="46800" anchor="t">
            <a:normAutofit fontScale="74000"/>
          </a:bodyPr>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Beschleunigeranlage</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Strahltrafo</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anforderungen</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tes MAPS-System (Makro Puls Sektor)</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hitektur (neu &amp; alt )</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rdware-Komponenten</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ftware </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zit &amp; Ausblick</a:t>
            </a:r>
            <a:endParaRPr b="0" lang="en-US" sz="2400" spc="-1" strike="noStrike">
              <a:solidFill>
                <a:srgbClr val="000000"/>
              </a:solidFill>
              <a:latin typeface="Arial"/>
            </a:endParaRPr>
          </a:p>
          <a:p>
            <a:pPr marL="253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euer: </a:t>
            </a:r>
            <a:endParaRPr b="0" lang="en-US" sz="20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lger Brand von DVEE</a:t>
            </a:r>
            <a:endParaRPr b="0" lang="en-US" sz="18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dreas Peters, SD-Beschleuniger</a:t>
            </a:r>
            <a:endParaRPr b="0" lang="en-US" sz="18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ns-Jörg Reeg, SD-Beschleuni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zit</a:t>
            </a: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rinzipielle Funktionalität der Applikation wurde erfolgreich in einer Simulationsumgebung geteste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rafo-Elektronik existiert leider noch nich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fehlende Trafo-Elektronik wurde mit Hilfe einer zweiten RIO-Karte simuliert.</a:t>
            </a:r>
            <a:endParaRPr b="0" lang="en-US" sz="2400" spc="-1" strike="noStrike">
              <a:solidFill>
                <a:srgbClr val="000000"/>
              </a:solidFill>
              <a:latin typeface="Arial"/>
            </a:endParaRPr>
          </a:p>
          <a:p>
            <a:pPr marL="31536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ige Probleme/Aufgaben müssen noch gelöst werden.</a:t>
            </a:r>
            <a:endParaRPr b="0"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rver-Performance</a:t>
            </a:r>
            <a:br>
              <a:rPr sz="2200"/>
            </a:br>
            <a:r>
              <a:rPr b="0" lang="de-DE" sz="2000" spc="-1" strike="noStrike">
                <a:solidFill>
                  <a:srgbClr val="000000"/>
                </a:solidFill>
                <a:latin typeface="Arial"/>
              </a:rPr>
              <a:t>Die Daten werden wegen </a:t>
            </a:r>
            <a:r>
              <a:rPr b="1" lang="de-DE" sz="2000" spc="-1" strike="noStrike">
                <a:solidFill>
                  <a:srgbClr val="000000"/>
                </a:solidFill>
                <a:latin typeface="Arial"/>
              </a:rPr>
              <a:t>hoher CPU-Last</a:t>
            </a:r>
            <a:r>
              <a:rPr b="0" lang="de-DE" sz="2000" spc="-1" strike="noStrike">
                <a:solidFill>
                  <a:srgbClr val="000000"/>
                </a:solidFill>
                <a:latin typeface="Arial"/>
              </a:rPr>
              <a:t>, bedingt durch die zeitkritische DAQ-Schleife, nicht schnell genug an die Klienten gesendet.</a:t>
            </a:r>
            <a:endParaRPr b="0" lang="en-US" sz="20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ioritäten für die verschiedenen Pulskennungen</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reduktion auf 4 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blick</a:t>
            </a: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hlende NI-DAQ-Karten sind bestel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fo-Elektronik wird in Kürze beauftra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arbeitung der Verantwortlichen Mitarbei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erbst 2005: Inbetriebnahme sobald die Trafo-Elektronik einsatzbereit 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st im realen Einsatz bis Ende 2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E</a:t>
            </a:r>
            <a:endParaRPr b="1" lang="en-US" sz="3200" spc="-1" strike="noStrike">
              <a:solidFill>
                <a:srgbClr val="000000"/>
              </a:solidFill>
              <a:latin typeface="Arial"/>
            </a:endParaRPr>
          </a:p>
        </p:txBody>
      </p:sp>
      <p:sp>
        <p:nvSpPr>
          <p:cNvPr id="179" name="PlaceHolder 2"/>
          <p:cNvSpPr>
            <a:spLocks noGrp="1"/>
          </p:cNvSpPr>
          <p:nvPr>
            <p:ph type="subTitle"/>
          </p:nvPr>
        </p:nvSpPr>
        <p:spPr>
          <a:xfrm>
            <a:off x="1907640" y="2997360"/>
            <a:ext cx="5551560" cy="130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len Dank für Ihre Aufmerksamk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chleunigeranlage</a:t>
            </a:r>
            <a:endParaRPr b="1" lang="en-US" sz="3600" spc="-1" strike="noStrike">
              <a:solidFill>
                <a:srgbClr val="000000"/>
              </a:solidFill>
              <a:latin typeface="Arial"/>
            </a:endParaRPr>
          </a:p>
        </p:txBody>
      </p:sp>
      <p:graphicFrame>
        <p:nvGraphicFramePr>
          <p:cNvPr id="105" name=""/>
          <p:cNvGraphicFramePr/>
          <p:nvPr/>
        </p:nvGraphicFramePr>
        <p:xfrm>
          <a:off x="282600" y="1341360"/>
          <a:ext cx="8610480" cy="4896000"/>
        </p:xfrm>
        <a:graphic>
          <a:graphicData uri="http://schemas.openxmlformats.org/presentationml/2006/ole">
            <p:oleObj r:id="rId1" spid="">
              <p:embed/>
              <p:pic>
                <p:nvPicPr>
                  <p:cNvPr id="106" name="" descr=""/>
                  <p:cNvPicPr/>
                  <p:nvPr/>
                </p:nvPicPr>
                <p:blipFill>
                  <a:blip r:embed="rId2"/>
                  <a:stretch/>
                </p:blipFill>
                <p:spPr>
                  <a:xfrm>
                    <a:off x="282600" y="1341360"/>
                    <a:ext cx="8610480" cy="489600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hltrafo &amp; Zubehör</a:t>
            </a:r>
            <a:endParaRPr b="1" lang="en-US" sz="3600" spc="-1" strike="noStrike">
              <a:solidFill>
                <a:srgbClr val="000000"/>
              </a:solidFill>
              <a:latin typeface="Arial"/>
            </a:endParaRPr>
          </a:p>
        </p:txBody>
      </p:sp>
      <p:pic>
        <p:nvPicPr>
          <p:cNvPr id="108" name="" descr=""/>
          <p:cNvPicPr/>
          <p:nvPr/>
        </p:nvPicPr>
        <p:blipFill>
          <a:blip r:embed="rId1"/>
          <a:stretch/>
        </p:blipFill>
        <p:spPr>
          <a:xfrm>
            <a:off x="539640" y="1341360"/>
            <a:ext cx="8078760" cy="4899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stemanforderungen</a:t>
            </a: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altime-Server</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ulsfrequenz: 50 Hz</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beschleuniger: Quelle-Ziel (</a:t>
            </a:r>
            <a:r>
              <a:rPr b="0" i="1" lang="de-DE" sz="1800" spc="-1" strike="noStrike">
                <a:solidFill>
                  <a:srgbClr val="000000"/>
                </a:solidFill>
                <a:latin typeface="Arial"/>
              </a:rPr>
              <a:t>Pulse ID</a:t>
            </a:r>
            <a:r>
              <a:rPr b="0" lang="de-DE" sz="1800" spc="-1" strike="noStrike">
                <a:solidFill>
                  <a:srgbClr val="000000"/>
                </a:solidFill>
                <a:latin typeface="Arial"/>
              </a:rPr>
              <a:t>)</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zahl der Signale: 40 </a:t>
            </a:r>
            <a:r>
              <a:rPr b="0" lang="de-DE" sz="1800" spc="-1" strike="noStrike">
                <a:solidFill>
                  <a:srgbClr val="000000"/>
                </a:solidFill>
                <a:latin typeface="Wingdings"/>
                <a:ea typeface="Wingdings"/>
              </a:rPr>
              <a:t></a:t>
            </a:r>
            <a:r>
              <a:rPr b="0" lang="de-DE" sz="1800" spc="-1" strike="noStrike">
                <a:solidFill>
                  <a:srgbClr val="000000"/>
                </a:solidFill>
                <a:latin typeface="Arial"/>
              </a:rPr>
              <a:t> 64 (</a:t>
            </a:r>
            <a:r>
              <a:rPr b="0" lang="de-DE" sz="1800" spc="-1" strike="noStrike">
                <a:solidFill>
                  <a:srgbClr val="000000"/>
                </a:solidFill>
                <a:latin typeface="Wingdings"/>
                <a:ea typeface="Wingdings"/>
              </a:rPr>
              <a:t></a:t>
            </a:r>
            <a:r>
              <a:rPr b="0" lang="de-DE" sz="1800" spc="-1" strike="noStrike">
                <a:solidFill>
                  <a:srgbClr val="000000"/>
                </a:solidFill>
                <a:latin typeface="Arial"/>
              </a:rPr>
              <a:t>128)</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tastrate der Analogsignale: 2 MHz, Signallänge: 2µS </a:t>
            </a:r>
            <a:r>
              <a:rPr b="0" lang="de-DE" sz="1800" spc="-1" strike="noStrike">
                <a:solidFill>
                  <a:srgbClr val="000000"/>
                </a:solidFill>
                <a:latin typeface="Wingdings"/>
                <a:ea typeface="Wingdings"/>
              </a:rPr>
              <a:t></a:t>
            </a:r>
            <a:r>
              <a:rPr b="0" lang="de-DE" sz="1800" spc="-1" strike="noStrike">
                <a:solidFill>
                  <a:srgbClr val="000000"/>
                </a:solidFill>
                <a:latin typeface="Arial"/>
              </a:rPr>
              <a:t> 8m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hmenpulse: digitale Signale</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multane Datenerfassung, Gemeinsamer externer Trigger</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tene </a:t>
            </a:r>
            <a:r>
              <a:rPr b="0" i="1" lang="de-DE" sz="1800" spc="-1" strike="noStrike">
                <a:solidFill>
                  <a:srgbClr val="000000"/>
                </a:solidFill>
                <a:latin typeface="Arial"/>
              </a:rPr>
              <a:t>Pulse IDs</a:t>
            </a:r>
            <a:r>
              <a:rPr b="0" lang="de-DE" sz="1800" spc="-1" strike="noStrike">
                <a:solidFill>
                  <a:srgbClr val="000000"/>
                </a:solidFill>
                <a:latin typeface="Arial"/>
              </a:rPr>
              <a:t> dürfen nicht verloren gehen. </a:t>
            </a:r>
            <a:endParaRPr b="0" lang="en-US" sz="1800" spc="-1" strike="noStrike">
              <a:solidFill>
                <a:srgbClr val="000000"/>
              </a:solidFill>
              <a:latin typeface="Arial"/>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erministische Datenerfassung ist zeitkritisch</a:t>
            </a:r>
            <a:endParaRPr b="0" lang="en-US" sz="1600" spc="-1" strike="noStrike">
              <a:solidFill>
                <a:srgbClr val="000000"/>
              </a:solidFill>
              <a:latin typeface="Arial"/>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ulticlient-Server zur Publikation der Daten muss mit </a:t>
            </a:r>
            <a:br>
              <a:rPr sz="1600"/>
            </a:br>
            <a:r>
              <a:rPr b="0" lang="de-DE" sz="1600" spc="-1" strike="noStrike">
                <a:solidFill>
                  <a:srgbClr val="000000"/>
                </a:solidFill>
                <a:latin typeface="Arial"/>
              </a:rPr>
              <a:t>niedrigerer Priorität ausgeführt werden</a:t>
            </a:r>
            <a:endParaRPr b="0" lang="en-US" sz="16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ienten: </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rten- und Operatingmodu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ktualisierungsrate der Visualisierung: 4 Hz</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chivierung: max. 1 Stun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s MAPS System</a:t>
            </a: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fontScale="61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PS: Macro-Puls-Sekto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sentliche Nachteile</a:t>
            </a:r>
            <a:endParaRPr b="0" lang="en-US" sz="20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DOS-PC, 1 Bildschirm</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2 aus 40 Kanälen werden gemessen </a:t>
            </a:r>
            <a:r>
              <a:rPr b="0" i="1" lang="de-DE" sz="1800" spc="-1" strike="noStrike">
                <a:solidFill>
                  <a:srgbClr val="000000"/>
                </a:solidFill>
                <a:latin typeface="Arial"/>
              </a:rPr>
              <a:t>(Multiplexer)</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2 Kanäle zur Anzeige</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Ersatzteile verfügbar</a:t>
            </a:r>
            <a:endParaRPr b="0" lang="en-US" sz="1800" spc="-1" strike="noStrike">
              <a:solidFill>
                <a:srgbClr val="000000"/>
              </a:solidFill>
              <a:latin typeface="Arial"/>
            </a:endParaRPr>
          </a:p>
        </p:txBody>
      </p:sp>
      <p:pic>
        <p:nvPicPr>
          <p:cNvPr id="113" name="" descr=""/>
          <p:cNvPicPr/>
          <p:nvPr/>
        </p:nvPicPr>
        <p:blipFill>
          <a:blip r:embed="rId1"/>
          <a:stretch/>
        </p:blipFill>
        <p:spPr>
          <a:xfrm>
            <a:off x="4284720" y="3141720"/>
            <a:ext cx="4103640" cy="31129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chitektur (neu &amp; alt)</a:t>
            </a:r>
            <a:endParaRPr b="1" lang="en-US" sz="3600" spc="-1" strike="noStrike">
              <a:solidFill>
                <a:srgbClr val="000000"/>
              </a:solidFill>
              <a:latin typeface="Arial"/>
            </a:endParaRPr>
          </a:p>
        </p:txBody>
      </p:sp>
      <p:pic>
        <p:nvPicPr>
          <p:cNvPr id="115" name="" descr=""/>
          <p:cNvPicPr/>
          <p:nvPr/>
        </p:nvPicPr>
        <p:blipFill>
          <a:blip r:embed="rId1"/>
          <a:stretch/>
        </p:blipFill>
        <p:spPr>
          <a:xfrm>
            <a:off x="2476440" y="2692440"/>
            <a:ext cx="360" cy="360"/>
          </a:xfrm>
          <a:prstGeom prst="rect">
            <a:avLst/>
          </a:prstGeom>
          <a:ln w="0">
            <a:noFill/>
          </a:ln>
        </p:spPr>
      </p:pic>
      <p:pic>
        <p:nvPicPr>
          <p:cNvPr id="116" name="" descr=""/>
          <p:cNvPicPr/>
          <p:nvPr/>
        </p:nvPicPr>
        <p:blipFill>
          <a:blip r:embed="rId2"/>
          <a:stretch/>
        </p:blipFill>
        <p:spPr>
          <a:xfrm>
            <a:off x="6667560" y="2692440"/>
            <a:ext cx="360" cy="360"/>
          </a:xfrm>
          <a:prstGeom prst="rect">
            <a:avLst/>
          </a:prstGeom>
          <a:ln w="0">
            <a:noFill/>
          </a:ln>
        </p:spPr>
      </p:pic>
      <p:pic>
        <p:nvPicPr>
          <p:cNvPr id="117" name="" descr=""/>
          <p:cNvPicPr/>
          <p:nvPr/>
        </p:nvPicPr>
        <p:blipFill>
          <a:blip r:embed="rId3"/>
          <a:stretch/>
        </p:blipFill>
        <p:spPr>
          <a:xfrm>
            <a:off x="2476440" y="5032440"/>
            <a:ext cx="360" cy="360"/>
          </a:xfrm>
          <a:prstGeom prst="rect">
            <a:avLst/>
          </a:prstGeom>
          <a:ln w="0">
            <a:noFill/>
          </a:ln>
        </p:spPr>
      </p:pic>
      <p:graphicFrame>
        <p:nvGraphicFramePr>
          <p:cNvPr id="118" name=""/>
          <p:cNvGraphicFramePr/>
          <p:nvPr/>
        </p:nvGraphicFramePr>
        <p:xfrm>
          <a:off x="4716360" y="1341360"/>
          <a:ext cx="3465720" cy="5040360"/>
        </p:xfrm>
        <a:graphic>
          <a:graphicData uri="http://schemas.openxmlformats.org/presentationml/2006/ole">
            <p:oleObj r:id="rId4" spid="">
              <p:embed/>
              <p:pic>
                <p:nvPicPr>
                  <p:cNvPr id="119" name="" descr=""/>
                  <p:cNvPicPr/>
                  <p:nvPr/>
                </p:nvPicPr>
                <p:blipFill>
                  <a:blip r:embed="rId5"/>
                  <a:stretch/>
                </p:blipFill>
                <p:spPr>
                  <a:xfrm>
                    <a:off x="4716360" y="1341360"/>
                    <a:ext cx="3465720" cy="5040360"/>
                  </a:xfrm>
                  <a:prstGeom prst="rect">
                    <a:avLst/>
                  </a:prstGeom>
                  <a:ln w="3240">
                    <a:solidFill>
                      <a:srgbClr val="000000"/>
                    </a:solidFill>
                    <a:miter/>
                  </a:ln>
                </p:spPr>
              </p:pic>
            </p:oleObj>
          </a:graphicData>
        </a:graphic>
      </p:graphicFrame>
      <p:pic>
        <p:nvPicPr>
          <p:cNvPr id="120" name="" descr=""/>
          <p:cNvPicPr/>
          <p:nvPr/>
        </p:nvPicPr>
        <p:blipFill>
          <a:blip r:embed="rId6"/>
          <a:stretch/>
        </p:blipFill>
        <p:spPr>
          <a:xfrm>
            <a:off x="6667560" y="5032440"/>
            <a:ext cx="360" cy="360"/>
          </a:xfrm>
          <a:prstGeom prst="rect">
            <a:avLst/>
          </a:prstGeom>
          <a:ln w="0">
            <a:noFill/>
          </a:ln>
        </p:spPr>
      </p:pic>
      <p:pic>
        <p:nvPicPr>
          <p:cNvPr id="121" name="" descr=""/>
          <p:cNvPicPr/>
          <p:nvPr/>
        </p:nvPicPr>
        <p:blipFill>
          <a:blip r:embed="rId7"/>
          <a:stretch/>
        </p:blipFill>
        <p:spPr>
          <a:xfrm>
            <a:off x="611280" y="1197000"/>
            <a:ext cx="3668760" cy="5327640"/>
          </a:xfrm>
          <a:prstGeom prst="rect">
            <a:avLst/>
          </a:prstGeom>
          <a:ln w="324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Komponenten</a:t>
            </a:r>
            <a:endParaRPr b="1" lang="en-US" sz="3600" spc="-1" strike="noStrike">
              <a:solidFill>
                <a:srgbClr val="000000"/>
              </a:solidFill>
              <a:latin typeface="Arial"/>
            </a:endParaRPr>
          </a:p>
        </p:txBody>
      </p:sp>
      <p:sp>
        <p:nvSpPr>
          <p:cNvPr id="123" name="PlaceHolder 2"/>
          <p:cNvSpPr>
            <a:spLocks noGrp="1"/>
          </p:cNvSpPr>
          <p:nvPr>
            <p:ph/>
          </p:nvPr>
        </p:nvSpPr>
        <p:spPr>
          <a:xfrm>
            <a:off x="468360" y="1196640"/>
            <a:ext cx="6191280" cy="532764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1045 18-Slot Chassi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8186 Embedded Controller</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5 GHz Pentium 4</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GByte Arbeitsspeiche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00MBit-Ethernet</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8 NI PXI-6133 S-Series Analog Input</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ultane Abtastu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ximal 2,5 M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8 differentielle Analoge Eingäng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tern triggerbar</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7811 Reconfigurable I/O</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60 digitale konfigurierbare Ein- u Ausgäng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0 MHz clock</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andard-PCs für die Klienten</a:t>
            </a:r>
            <a:endParaRPr b="0" lang="en-US" sz="2200" spc="-1" strike="noStrike">
              <a:solidFill>
                <a:srgbClr val="000000"/>
              </a:solidFill>
              <a:latin typeface="Arial"/>
            </a:endParaRPr>
          </a:p>
        </p:txBody>
      </p:sp>
      <p:pic>
        <p:nvPicPr>
          <p:cNvPr id="124" name="" descr=""/>
          <p:cNvPicPr/>
          <p:nvPr/>
        </p:nvPicPr>
        <p:blipFill>
          <a:blip r:embed="rId1"/>
          <a:stretch/>
        </p:blipFill>
        <p:spPr>
          <a:xfrm>
            <a:off x="6948360" y="1197000"/>
            <a:ext cx="194472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LabVIEW-GUI</a:t>
            </a:r>
            <a:endParaRPr b="1" lang="en-US" sz="36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r statt 2 Signa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nübertragung via Netzwer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tellbare Visualisieru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weiterba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hrere Klien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iguration der Hardwa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7" name=""/>
          <p:cNvGraphicFramePr/>
          <p:nvPr/>
        </p:nvGraphicFramePr>
        <p:xfrm>
          <a:off x="3780000" y="2471760"/>
          <a:ext cx="5219640" cy="3836880"/>
        </p:xfrm>
        <a:graphic>
          <a:graphicData uri="http://schemas.openxmlformats.org/presentationml/2006/ole">
            <p:oleObj r:id="rId1" spid="">
              <p:embed/>
              <p:pic>
                <p:nvPicPr>
                  <p:cNvPr id="128" name="" descr=""/>
                  <p:cNvPicPr/>
                  <p:nvPr/>
                </p:nvPicPr>
                <p:blipFill>
                  <a:blip r:embed="rId2"/>
                  <a:stretch/>
                </p:blipFill>
                <p:spPr>
                  <a:xfrm>
                    <a:off x="3780000" y="2471760"/>
                    <a:ext cx="521964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5:49:23Z</dcterms:created>
  <dc:creator>Holger Brand</dc:creator>
  <dc:description/>
  <dc:language>en-US</dc:language>
  <cp:lastModifiedBy>laarouss</cp:lastModifiedBy>
  <dcterms:modified xsi:type="dcterms:W3CDTF">2005-04-18T10:57:08Z</dcterms:modified>
  <cp:revision>27</cp:revision>
  <dc:subject/>
  <dc:title>Ionenstrahlstrom-Diagnose basierend auf  PXI-LabVIEW-Realtime</dc:title>
</cp:coreProperties>
</file>